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ECF-D13B-49FB-B790-3E9ADDAF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BE9-62F7-4790-B331-109D92C0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C80-C1DC-4FBB-82DC-74165268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5A9-2E94-42B7-94CA-C69D802E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351-68E6-4C30-A4D6-047A5404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EE1-6B5C-4E81-A87B-AC8F3BCA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7DF-A484-4678-A876-478D9A8E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995-F129-44B2-B69D-003CAB9B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354-C388-42D4-8980-E349DE8D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BFA-9CE2-40C4-B943-DFCAD91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DD8-9942-4544-ACD5-CCE28002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4C0-9B4B-49DF-A292-45F2AF6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6213-89B8-4A29-A813-66C7D8DBD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04:46Z</dcterms:created>
  <dc:creator>Patrick J. Mooney</dc:creator>
  <dc:description/>
  <dc:language>en-US</dc:language>
  <cp:lastModifiedBy>Patrick J. Mooney</cp:lastModifiedBy>
  <dcterms:modified xsi:type="dcterms:W3CDTF">2010-03-30T14:05:51Z</dcterms:modified>
  <cp:revision>1</cp:revision>
  <dc:subject/>
  <dc:title>Slide 1</dc:title>
</cp:coreProperties>
</file>